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645-93F0-4D86-80F4-90E866FC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0B8-637F-4054-BE05-E3141F57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1B3-EF29-43D9-8910-C571F5FB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9C9-4579-4BF7-B1B5-508FEA92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71B2-BC90-41E2-904E-C6D59B3A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AF9-287E-49FF-8732-633946F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EAC1-2136-4D48-8540-A33E131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279D-0B37-4851-BDD9-6CAFA892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22FA-995F-48D9-926A-9DD2E174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8CC8-608C-4786-9F33-4AD550D6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3407-3851-416B-929B-DE2FB3D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42A-6F5D-4738-BBAB-81FB857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F4B4-2BA2-4C31-96B4-359FDF5F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590E-1AE7-425F-A95E-1E8C69E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7F43-009F-4951-B9A3-0D33D699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9036-F041-40BE-AB6E-0F64870B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337C-84F3-4369-9B88-08654759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4660-037F-4CCC-B084-5AB9EBDC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1AC8-BBAA-4B57-91D6-BF6AF182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5A78-669B-40B2-9020-8AE9EB4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6550-E287-44D7-9298-C9B850C4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3190-1983-4F38-8E7E-FFEBF791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FEA-3D55-4806-A1D8-9EB51A1D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A1B8-A79D-44B7-8C10-353FB4D0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8FFE-0F19-40D1-80CF-D6D1064F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11D7-CD4A-44B3-BD19-BBEF1B38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5A45-122C-49CD-90AC-B328D2E5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6F49-47C0-48A6-AE4B-8D52A61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5240-BBFE-4380-8F27-176E4BA9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A9D7-E8B4-4E86-9EAA-4A1FBCDE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39AB-62E0-40D0-9D1B-960D8F1D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40B2-FC17-4CDD-827F-B5B86DB1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1356-80CA-4F04-8EE0-603250D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F64-9D74-4CBE-BFF8-39E67628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F015-C602-479F-A076-F7FAD75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E0DB-BA5D-44A6-A05A-538DF505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13F5-B64B-46C9-AA56-6DDAD03E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A024-5A93-4598-8C59-7A76653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6B98-2113-49E5-B906-78B8696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2C55-5119-43E1-88A3-D1EF33D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2C1B-D517-4E04-A175-CD23869F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B4C9-41CC-4072-ADB8-12E1EACB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907F-38F3-461B-9EF5-15A79AE8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E1BFE-F437-4A2C-BB6B-B86B64CE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A06-93BB-4CF3-88A4-546D8EC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2863-70CC-4391-86BE-3A20CE3E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448D-97F3-4922-AFB8-86B6CA1F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0EC9-D142-4868-8C5B-FAF549E6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BDC6-18C9-467A-A6C1-D1BD8B9C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87EA1-71E3-48FD-BDDB-1BCCF86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0460-F54C-4781-8DD9-87D1E3C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1F2D3-444D-4ED9-A7CB-8FC32E9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1E61-C71C-4414-87F2-88DE489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8B88-4A96-45D7-8E45-8C52A5F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687E5-CA1D-4FCB-832B-3AEB53FD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9BD-DCAA-4035-8375-FC25CC0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E5EEF-2361-4A9C-B710-8089BF3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F38-3B5D-4B1C-891D-B1E471C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825-E7D6-46CE-AC78-68FCF672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815-0608-4EBC-8DF1-3F72FB3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DED-7422-45A7-A01C-C36025171E44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F91-62F2-4559-AD6C-87DA08DAAC57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FFE-35A0-4288-96F1-B044B0511190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87D-C2EC-4D26-8920-0F8A6184D346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1B48-1452-4EBB-9EE2-CD0510BD4D08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500" spc="-1" strike="noStrike">
                <a:solidFill>
                  <a:srgbClr val="ff8d3e"/>
                </a:solidFill>
                <a:latin typeface="Verdana"/>
              </a:rPr>
              <a:t>Obsolescencia del hardw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79766f"/>
                </a:solidFill>
                <a:latin typeface="Verdana"/>
              </a:rPr>
              <a:t>Tis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79766f"/>
                </a:solidFill>
                <a:latin typeface="Verdana"/>
              </a:rPr>
              <a:t>Jim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79766f"/>
                </a:solidFill>
                <a:latin typeface="Verdana"/>
              </a:rPr>
              <a:t>BI 1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l problema de Tántal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Tantalio o Tántalo es un polvo metálico gris que pos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s especiales características físicas y químicas. Es Un metal refractario que presenta cualidades muy valoradas hoy día: es 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istente a la corrosión como el vidrio; extremadamente dúctil y maleable, permite 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blado, enrollado, soldado; además se utiliza en aleacion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objeto de obtener materiales resistentes a muy al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eratu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En el hardware: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 utiliza en ale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ran capacidad para regular el voltaje y almacenar energ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utilizándose el polvo de tantalio para fabricar los llamados "capacitares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abricación de fibra óptica, equipos electrónicos, los misiles balísticos, y cohetes espaciale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económico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Es uno de los metales mas caros del mundo, se utiliza en casi todos los aparatos electrón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tantalio es considerado como uno de los recursos estratégicos m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mportantes del nuevo sigl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psicológico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fiebre del tántalo ha empujado a miles de mineros y esclavos al interior de 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arques nacionales de Kahuzi-Biega (en Kivu-Sur) y Okapi, en el este del Congo. Es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les de personas se están asentado,  y matando animales salvajes para alimentarse, ya es que la única fuente de alim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político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tas zonas son reservas protegid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claradas por la Unesco, Patrimonio de la Humanidad. Las excav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discriminadas,son ilegales y , han ocasionando dañ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rreparables al ecosistema. El director general de World Wide Fund for Nature (WWF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laude Martin, declaró en mayo de este año a un diario surafricano: 'Es u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rresponsabilidad que afecta a todos, desde mineros hasta grandes multinacional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ben mirar más allá de los beneficios y pensar en el bien gen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sociale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tre las consecuencias de la extracción de coltán en la RDC, destaca u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tuación de guerra constante, caracterizada por un gran número de conflictos entre 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intas guerrillas establecidas en el paí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la RDC también existen dos claras situaciones de violación de los derech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humanos, provocadas por la extracción de coltán, como son la esclavitud y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lotación infant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medioambientale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Disminución de los bosques por la tala de árbo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La población de elefantes se a disminuido drásticamente, así como la población de goril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Se han erosionado los suelos y se han contaminado ríos subterráneos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8:59:49Z</dcterms:created>
  <dc:creator>e02-0730</dc:creator>
  <dc:description/>
  <dc:language>en-US</dc:language>
  <cp:lastModifiedBy>e02-0730</cp:lastModifiedBy>
  <dcterms:modified xsi:type="dcterms:W3CDTF">2009-04-14T18:31:10Z</dcterms:modified>
  <cp:revision>4</cp:revision>
  <dc:subject/>
  <dc:title>Obsolescencia del hardware</dc:title>
</cp:coreProperties>
</file>